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53123"/>
        <c:axId val="60412509"/>
      </c:barChart>
      <c:catAx>
        <c:axId val="90753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12509"/>
        <c:crosses val="autoZero"/>
        <c:auto val="1"/>
        <c:lblAlgn val="ctr"/>
        <c:lblOffset val="100"/>
        <c:noMultiLvlLbl val="0"/>
      </c:catAx>
      <c:valAx>
        <c:axId val="60412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53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56D-1AFE-4E30-9C4D-C125887E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723-8759-4C2B-A8B5-EF8495B5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91C-25BB-4F07-8F15-0145CF78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7EF-97B2-46BA-AFB0-51278C4C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6BE-9163-4176-AAE7-5FDAA56C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415-772C-46B4-9987-CBC0806F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BF8-4408-4F56-88B9-B0F3305A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AE6-99A9-4DE9-BC95-A7CCB59F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ECA-D3E5-4CB1-8AFB-E63E13B5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EC7-D522-412C-84F1-2E9CB4E9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BB5-36B8-4B5B-9C2D-253C076B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FDF-57BD-4256-8820-AA149B16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055DC-C23E-4B00-A81D-50B5FA60D2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