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85888"/>
        <c:axId val="39497718"/>
      </c:barChart>
      <c:catAx>
        <c:axId val="828858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97718"/>
        <c:crosses val="autoZero"/>
        <c:auto val="1"/>
        <c:lblAlgn val="ctr"/>
        <c:lblOffset val="100"/>
        <c:noMultiLvlLbl val="0"/>
      </c:catAx>
      <c:valAx>
        <c:axId val="394977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858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921-D51E-4D44-839A-FF14FB1E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7C49-2DF8-4F04-97DB-4730EC2C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A9F8-8B39-4710-BC11-A3B70021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615-C8DC-4D24-B8A9-5ABEBB70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0AE8-E11A-47C4-B0A8-0C761B7D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EB33-7054-41F0-81AC-8B95F4CE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A47-5748-4DB6-A49F-BAE49658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FEB8-39FB-4F2B-8AB8-F788DDBC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430-50A1-4B4F-BC23-B331AA1E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5E5-7B8E-4104-92B3-118B8247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8685-8982-471E-BE93-8F5D3A60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A42-72D1-42CF-8940-5F867D8D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8BF80-11AC-4824-93C4-8AF58FF183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