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31186"/>
        <c:axId val="9429097"/>
      </c:barChart>
      <c:catAx>
        <c:axId val="71331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9097"/>
        <c:crosses val="autoZero"/>
        <c:auto val="1"/>
        <c:lblAlgn val="ctr"/>
        <c:lblOffset val="100"/>
        <c:noMultiLvlLbl val="0"/>
      </c:catAx>
      <c:valAx>
        <c:axId val="9429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31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7D6A-4626-4572-A7DD-896C80EF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4401-F8CC-4810-9346-13E0A8E6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7A8-C5A9-46CD-BB6F-8285BBB3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EDF-863D-4BD0-A086-E6AD08B6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5CC-48AC-49CD-A0AF-95B9D59F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F19-BBF2-491D-B6E2-3C5A6A6B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36A-8889-4A1C-8998-BC971B73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30D-AE5C-499E-A8F8-16A24E8F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667-06C1-4713-AB17-E757F92B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CEE-DC16-40E7-B19D-0F72460A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0E9-4E8F-412F-A2EC-191BC996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EA08-3880-4DA4-A49D-BE52A5C4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77AA9-59EB-4FA1-A2BF-754499566B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