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832449"/>
        <c:axId val="31666221"/>
      </c:barChart>
      <c:catAx>
        <c:axId val="328324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66221"/>
        <c:crosses val="autoZero"/>
        <c:auto val="1"/>
        <c:lblAlgn val="ctr"/>
        <c:lblOffset val="100"/>
        <c:noMultiLvlLbl val="0"/>
      </c:catAx>
      <c:valAx>
        <c:axId val="316662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8324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FF0D-B4E1-4285-AD0F-874C54E6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4623-E575-4019-932C-B83C2E87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578B-3301-4E0C-85CD-0AAE51BA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B8BD-09DA-49C1-9F60-36A0C8443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1194-6055-42BA-BEB5-EDF1A489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81BF-E25C-49B7-B9EF-4B5F044C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33A5-228C-4AB0-9E8F-B298CDD9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B82B-FB8D-42DC-A3CF-8DE6999C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6DF3-6CA9-4719-91BE-E5B78446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5A21-C94F-4DEC-ADFD-F2854140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7E5C-4260-4997-B375-5ACC10E6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6FF9-EB61-4480-ADF4-EC49AD88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895F8-3880-49AD-AD88-74FDD6A192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