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1536"/>
        <c:axId val="32544009"/>
      </c:barChart>
      <c:catAx>
        <c:axId val="4341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44009"/>
        <c:crosses val="autoZero"/>
        <c:auto val="1"/>
        <c:lblAlgn val="ctr"/>
        <c:lblOffset val="100"/>
        <c:noMultiLvlLbl val="0"/>
      </c:catAx>
      <c:valAx>
        <c:axId val="32544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1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F0E-52C9-4E89-8BEC-8BCAB3CB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CBE-C887-4BAA-8D1B-2261A9BC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01E-5DDD-43B0-91F2-E240E317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2B2-A30F-403E-9F7B-BA664101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C92-0F96-4F92-9F7C-DF2EC85A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915-25B0-4A4B-9C92-BC47F028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670-D624-4ADD-86C8-0FD367E2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D09-AF9E-4C2D-A5F8-9DB59D9C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10D-60F9-46C8-AADA-DA1503B9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C6E-9B70-40BF-B3FC-99F0F4A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4C6-B033-4347-86E7-C55E45F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C5A-2F87-4415-968A-B7BFE7F9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25328-7640-491A-BBB7-6D3BB8FD0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