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93966"/>
        <c:axId val="29133862"/>
      </c:barChart>
      <c:catAx>
        <c:axId val="38593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33862"/>
        <c:crosses val="autoZero"/>
        <c:auto val="1"/>
        <c:lblAlgn val="ctr"/>
        <c:lblOffset val="100"/>
        <c:noMultiLvlLbl val="0"/>
      </c:catAx>
      <c:valAx>
        <c:axId val="29133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93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943-490D-4D77-9EA4-97A40A35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7EA-B652-41E4-8C6F-6863D6C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709-1AEE-4621-A336-7D6AEE94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82E-E04B-44D7-9088-F2697BD2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D1E-8F0E-4AC6-BCCC-F7E94239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957-D61C-4B12-8225-1785C35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8ED-2F09-46B5-B995-DEE59D34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465-951D-4080-8547-733EF4E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BDD-25DD-48E7-B1D3-1B273CEB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897-91DD-4B88-9A6B-76FC8830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2FB-6F30-4C7E-8C62-26D8AB4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E44-8EC3-4203-9AC9-7934BA6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832CF-27C7-47EE-B631-A08A0B3AD7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